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EA9-F60B-40D9-8547-AA3ADFF2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1B3-724B-4DB5-9CEC-6E773FF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05B-3C00-4381-94B7-507E4CDB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EF2-18A1-481F-BC7A-36F9050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FFC0-BE9F-4744-8D1A-7598594A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CD4F-FD50-42BE-9068-E59C5675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EB5-83E5-43C6-8813-EEDE67A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8F1D-F4AD-4555-8D6E-A80F2DB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7AB-363D-4F68-8465-4AE3B47E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FEEA-C334-41DB-B417-8A24739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0A1-5699-4CD6-A0EB-413EB3C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2DE-20F2-440E-B48F-89946D28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ECB1-44B6-44B2-A54C-4F63280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B11D-61DC-4691-AD81-416596B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9015-EF86-448E-A8D7-04D19DC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6DAC-632A-4527-826F-CE3E10D6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055-22F0-442B-99CF-779FD8E8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5C7E-79C1-493A-8F8D-0145C228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73D3-5D7B-46CD-B563-A8CD82E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DDCF-5255-4179-9BFA-1E616568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C613-E8F2-4132-B7D8-3EE4055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3AD7-8847-471D-A908-F57BF0D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96D-1226-4D2C-81D8-01A0F1F1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826F-1E25-46CB-A065-0DFCE70E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304D-DBCB-4807-A885-852A955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E057-C8DF-4BA9-84B8-5080DC0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198B-815F-4E58-86C5-68E68EA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178A-3727-4092-A868-9C72651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5ADB-6560-432F-B066-83E37937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7379-8296-45BB-97E9-EA8BCF44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ACD0-45AC-4230-B2F2-6FFA5FB4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8C19-D7CB-4306-90A5-F3FC9A1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6E4F-25E7-4BAA-A0B6-B8516D1A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AB2-6AAC-4066-BE06-4228519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5BF0-10C5-412E-8D12-29C74F8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A7F4-F262-4CEF-81F8-FAD8B46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3322-F287-4DC5-B764-F37154F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44D1-612C-4135-9927-965E1F2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08F0-5965-4DEF-8D7D-AF8C27C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62EE-3E1C-4F8C-B06B-1952FF6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79CB-69A9-4FBA-9805-31AD517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1F81-016C-4D98-B564-DE455AE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0B9B-F2E0-4DC1-9D5B-C8C03AFC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E122-3B75-4DCF-AD4A-93AE03FF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B0E-3AC6-4C73-A81E-5304D952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B783-D391-42C6-8D69-51252E41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5C31-1AE3-49D1-8236-04C57D2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09AC-7574-4AA3-A92B-FC6D88B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EC0FD-E6E9-419D-98FE-AC9C886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3F53-B391-4130-B4F9-FBF8124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68310-3579-4A86-A5A8-C822D38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BAF0-2129-415C-A456-C7B29DD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005D-6629-4793-BD1D-AFB375B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3D3D-9177-41F1-BA0B-DC93666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D338-BEEB-4E94-8944-B5444593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199-B2C9-4A9D-B338-586AB47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F31B-345F-4BFF-9545-96FAD9A0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DC8-3B32-4BF0-BDCC-6276055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ACB-B6B9-48E1-B8C7-3A890E5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A58-0480-4879-ACC8-29DB111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5B5-AA00-4C89-B83F-7A5846BA32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DEA-E11A-4818-B5EA-E085D9BD8F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B11-7AC3-4F30-B352-2E454205BF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7F46-FF6C-4D1A-A978-057F55B346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C48-5DC3-4B34-BB7C-B0EA581D91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ospitality Service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uarantee Program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condit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underst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ning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invok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coll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6" name="Object 4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130644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inciples of Wai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occupied waits seems longer than occupi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nxiety makes the wait seem longer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Waits of uncertain duration seem longer than those of known length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explained waits seem longer than explain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fair waits seem longer than equitable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 solo wait seems longest of al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9" name="Object 4" descr=""/>
          <p:cNvPicPr/>
          <p:nvPr/>
        </p:nvPicPr>
        <p:blipFill>
          <a:blip r:embed="rId1"/>
          <a:stretch/>
        </p:blipFill>
        <p:spPr>
          <a:xfrm>
            <a:off x="6629400" y="144360"/>
            <a:ext cx="2209680" cy="153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4"/>
          <p:cNvSpPr/>
          <p:nvPr/>
        </p:nvSpPr>
        <p:spPr>
          <a:xfrm>
            <a:off x="12952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Times New Roman"/>
              </a:rPr>
              <a:t>Hospitality Marketing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886200" y="12952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3657600" y="2133720"/>
            <a:ext cx="2743200" cy="2819160"/>
          </a:xfrm>
          <a:prstGeom prst="ellipse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172200" y="31240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724280" y="48769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1240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800600" y="19810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 rot="20343600">
            <a:off x="6248160" y="3123720"/>
            <a:ext cx="228600" cy="15264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9"/>
          <p:cNvSpPr/>
          <p:nvPr/>
        </p:nvSpPr>
        <p:spPr>
          <a:xfrm rot="19552200">
            <a:off x="5181120" y="487656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"/>
          <p:cNvSpPr/>
          <p:nvPr/>
        </p:nvSpPr>
        <p:spPr>
          <a:xfrm rot="15459000">
            <a:off x="4610160" y="209520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 rot="9420600">
            <a:off x="3580560" y="365688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6019920" y="20574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248520" y="449568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3200400" y="50292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48120" y="27432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066680" y="3200400"/>
            <a:ext cx="2286000" cy="824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ption of Service, Interaction with Service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809880" y="5257800"/>
            <a:ext cx="2362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er-Seller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ing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6705720" y="327672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 in Compan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4116600" y="2514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5564520" y="2514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4192920" y="39625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640480" y="39625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7010280" y="1600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6705720" y="518148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5"/>
          <p:cNvSpPr/>
          <p:nvPr/>
        </p:nvSpPr>
        <p:spPr>
          <a:xfrm flipH="1">
            <a:off x="2819160" y="5029200"/>
            <a:ext cx="190476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6"/>
          <p:cNvSpPr/>
          <p:nvPr/>
        </p:nvSpPr>
        <p:spPr>
          <a:xfrm>
            <a:off x="6477120" y="3657600"/>
            <a:ext cx="380880" cy="152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5333040" y="1756800"/>
            <a:ext cx="1599120" cy="29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1295280" y="5257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H="1" flipV="1">
            <a:off x="2209680" y="243792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990720" y="198108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5"/>
          <p:cNvSpPr/>
          <p:nvPr/>
        </p:nvSpPr>
        <p:spPr>
          <a:xfrm>
            <a:off x="3429000" y="32004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6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7"/>
          <p:cNvSpPr/>
          <p:nvPr/>
        </p:nvSpPr>
        <p:spPr>
          <a:xfrm>
            <a:off x="617220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nal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rvice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porate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6" name="Picture 8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724280" y="3276720"/>
            <a:ext cx="3586320" cy="2379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4191120" y="5334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4191120" y="4648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4191120" y="3276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191120" y="2590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191120" y="1905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19112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819520" y="1219320"/>
            <a:ext cx="3124080" cy="64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 Quality Orientation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819520" y="22096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2819520" y="28954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819520" y="42670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2819520" y="35812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of Servic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2819520" y="49528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2819520" y="56386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AutoShape 15"/>
          <p:cNvCxnSpPr/>
          <p:nvPr/>
        </p:nvCxnSpPr>
        <p:spPr>
          <a:xfrm flipH="1">
            <a:off x="5942880" y="586692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71" name="AutoShape 16"/>
          <p:cNvCxnSpPr/>
          <p:nvPr/>
        </p:nvCxnSpPr>
        <p:spPr>
          <a:xfrm flipH="1">
            <a:off x="5942880" y="239040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2" name="AutoShape 17"/>
          <p:cNvCxnSpPr/>
          <p:nvPr/>
        </p:nvCxnSpPr>
        <p:spPr>
          <a:xfrm flipH="1">
            <a:off x="5942880" y="154116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3" name="Line 19"/>
          <p:cNvSpPr/>
          <p:nvPr/>
        </p:nvSpPr>
        <p:spPr>
          <a:xfrm>
            <a:off x="6553080" y="1523880"/>
            <a:ext cx="0" cy="434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114300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Times New Roman"/>
              </a:rPr>
              <a:t>The Service Profi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finition of Servi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ervice is an activity or series of activities of more or less intangible nature that normally, but not necessarily, take place in interactions between the customer and service employees and/or physical resources or goods and/or systems of the service provider, which are provided as solutions to customer proble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ervi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angi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ople as part of the produ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mand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rish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nel of distrib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246400" cy="1162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4"/>
          <p:cNvSpPr/>
          <p:nvPr/>
        </p:nvSpPr>
        <p:spPr>
          <a:xfrm>
            <a:off x="1219320" y="2286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pitality Service Marketing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513160" y="1144440"/>
            <a:ext cx="3477960" cy="487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666880" y="1144440"/>
            <a:ext cx="337032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ERVICE DELIVER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541760" y="180036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41760" y="383868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5049720" y="2819520"/>
            <a:ext cx="428760" cy="1019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5991120" y="1217520"/>
            <a:ext cx="3152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MUNICATION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arketing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ual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perational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and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rresponde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irected at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352680" y="55119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isible to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9"/>
          <p:cNvSpPr/>
          <p:nvPr/>
        </p:nvSpPr>
        <p:spPr>
          <a:xfrm rot="1734600">
            <a:off x="5121000" y="398304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0"/>
          <p:cNvSpPr/>
          <p:nvPr/>
        </p:nvSpPr>
        <p:spPr>
          <a:xfrm rot="19893000">
            <a:off x="5121000" y="209052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4686480" y="303696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397400" y="2746440"/>
            <a:ext cx="0" cy="1236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397400" y="27464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397400" y="39830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 flipH="1">
            <a:off x="4033800" y="3402000"/>
            <a:ext cx="363600" cy="0"/>
          </a:xfrm>
          <a:prstGeom prst="line">
            <a:avLst/>
          </a:prstGeom>
          <a:ln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 flipV="1">
            <a:off x="2513160" y="2528640"/>
            <a:ext cx="0" cy="124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914400" y="2454120"/>
            <a:ext cx="3200400" cy="1371960"/>
          </a:xfrm>
          <a:prstGeom prst="rect">
            <a:avLst/>
          </a:prstGeom>
          <a:solidFill>
            <a:srgbClr val="cc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HOSPITALITY OPERAT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ck of the Hous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ont of the House          Faciliti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e Staf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uest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2513160" y="2746080"/>
            <a:ext cx="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990720" y="274644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990720" y="30481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990720" y="32767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5991120" y="1144440"/>
            <a:ext cx="3000600" cy="457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1143000" y="4495680"/>
            <a:ext cx="132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Not Gener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to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5638320" y="4876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6"/>
          <p:cNvSpPr/>
          <p:nvPr/>
        </p:nvSpPr>
        <p:spPr>
          <a:xfrm flipH="1">
            <a:off x="5638320" y="51814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7"/>
          <p:cNvSpPr/>
          <p:nvPr/>
        </p:nvSpPr>
        <p:spPr>
          <a:xfrm flipH="1">
            <a:off x="5628960" y="25146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8"/>
          <p:cNvSpPr/>
          <p:nvPr/>
        </p:nvSpPr>
        <p:spPr>
          <a:xfrm flipH="1">
            <a:off x="5628960" y="28195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5628960" y="3124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 flipH="1">
            <a:off x="5628960" y="34290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 flipH="1">
            <a:off x="5628960" y="38098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4"/>
          <p:cNvSpPr/>
          <p:nvPr/>
        </p:nvSpPr>
        <p:spPr>
          <a:xfrm flipH="1">
            <a:off x="5628960" y="44956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Dimen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chnical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pers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Object 4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371600" cy="2252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732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ppearance of physical facilities, equipment, personnel, and communication materi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bility to perform the promised service dependably and accurate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illingness to help customers and to provide prompt serv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732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Assur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knowledge and courtesy of employees and their ability to convey trust and conf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Em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vision of caring, individualized attention to custom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Ga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81600" y="1219320"/>
            <a:ext cx="2035440" cy="70380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Word of 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194720" y="1371600"/>
            <a:ext cx="184356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ers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922440" y="1371600"/>
            <a:ext cx="192708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ast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8760" y="2133720"/>
            <a:ext cx="204012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Expect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158720" y="3098880"/>
            <a:ext cx="209484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erceiv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194720" y="3936960"/>
            <a:ext cx="195480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63600" y="4927680"/>
            <a:ext cx="252936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Quality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657600" y="5867280"/>
            <a:ext cx="533412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gmt. Perceptions of Consum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7011000" y="3860640"/>
            <a:ext cx="2035440" cy="1008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to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1219320" y="3657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502920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2209680" y="1981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2209680" y="2362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7848720" y="1752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617184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5029200" y="53337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5029200" y="4343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"/>
          <p:cNvSpPr/>
          <p:nvPr/>
        </p:nvSpPr>
        <p:spPr>
          <a:xfrm flipV="1">
            <a:off x="5029200" y="3505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6553080" y="5105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 flipV="1">
            <a:off x="79246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3"/>
          <p:cNvSpPr/>
          <p:nvPr/>
        </p:nvSpPr>
        <p:spPr>
          <a:xfrm flipV="1">
            <a:off x="7848720" y="2438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4"/>
          <p:cNvSpPr/>
          <p:nvPr/>
        </p:nvSpPr>
        <p:spPr>
          <a:xfrm flipH="1">
            <a:off x="624816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5"/>
          <p:cNvSpPr/>
          <p:nvPr/>
        </p:nvSpPr>
        <p:spPr>
          <a:xfrm flipH="1">
            <a:off x="617184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4495680" y="251460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4495680" y="4343400"/>
            <a:ext cx="0" cy="5335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8"/>
          <p:cNvSpPr/>
          <p:nvPr/>
        </p:nvSpPr>
        <p:spPr>
          <a:xfrm>
            <a:off x="4495680" y="533412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>
            <a:off x="6172200" y="419112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 flipH="1">
            <a:off x="2971440" y="251460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1"/>
          <p:cNvSpPr/>
          <p:nvPr/>
        </p:nvSpPr>
        <p:spPr>
          <a:xfrm>
            <a:off x="2971800" y="2514600"/>
            <a:ext cx="0" cy="350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2"/>
          <p:cNvSpPr/>
          <p:nvPr/>
        </p:nvSpPr>
        <p:spPr>
          <a:xfrm>
            <a:off x="2971800" y="60199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3"/>
          <p:cNvSpPr/>
          <p:nvPr/>
        </p:nvSpPr>
        <p:spPr>
          <a:xfrm>
            <a:off x="987120" y="504360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4"/>
          <p:cNvSpPr/>
          <p:nvPr/>
        </p:nvSpPr>
        <p:spPr>
          <a:xfrm>
            <a:off x="2895480" y="54338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5"/>
          <p:cNvSpPr/>
          <p:nvPr/>
        </p:nvSpPr>
        <p:spPr>
          <a:xfrm>
            <a:off x="3045960" y="43434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5330520" y="432756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prom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3047040" y="2590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1295280" y="3733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Mark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1203480" y="3214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Cost of Qual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Goo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Ba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pection and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Ugly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efects and unsatisfied gue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-10-100 ru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3" name="Object 5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1676160" cy="1666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3:40:50Z</dcterms:created>
  <dc:creator>Sun</dc:creator>
  <dc:description/>
  <dc:language>en-US</dc:language>
  <cp:lastModifiedBy>robert</cp:lastModifiedBy>
  <cp:lastPrinted>2000-01-17T04:09:54Z</cp:lastPrinted>
  <dcterms:modified xsi:type="dcterms:W3CDTF">2011-04-11T08:56:46Z</dcterms:modified>
  <cp:revision>15</cp:revision>
  <dc:subject/>
  <dc:title>Nature of Services</dc:title>
</cp:coreProperties>
</file>